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DBF7-ED44-457E-90B9-7D44A09C1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the teacher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may need to be taught how to save to their designated location and how to print only selected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i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 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sel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4-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text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7EB-47BB-4856-8D69-2C014A0E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69F-BB09-47AE-8522-57EFE0B5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774-788D-4B55-9E42-F0209EC7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B7B-ED5C-4539-B86A-7EEF9876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99B9-9C4C-412D-AE37-A8818937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B10F-BF5B-42D7-8A7C-1BBA82D4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0BD0-97DD-465E-A1C8-1D07FC50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9B5E-52E6-4A33-9F83-9FD2F6BD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13E6-F8C8-4DBF-977F-3E646EF2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49E4-1BDB-47A1-A234-947E7356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7DEE-2CE1-4A10-AF93-437504B8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E6A-8DE0-4EBF-959B-3297A399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1F94-E44D-42DE-8B0D-3D131FAE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1926-8770-452B-B0E6-EA31325C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FEF0-1F29-48C9-A158-359E86D5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CCA9-0A3F-4A9A-AF84-0318113C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98BE-33D2-4D6B-9C54-1C802159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A00-CBE8-4FD9-A558-8FB24A03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EDF-99C7-4F96-B904-C1D65D08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486-1B42-46F4-BD00-114AA1AA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EDC-6EFF-4C7E-BAA2-0C2F27C2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E94-9F6C-43C2-9BAC-48FF6691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79A-8D1F-42E6-9803-9375FB27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8E6-C2B5-4B3C-9796-8C184C13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7E2A-D7DC-4874-A2CC-98B751AB69C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CD16-E841-4D24-8EEC-77A1187B443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manatee.k12.fl.us/sites/elementary/palmasola/klcontractions.htm" TargetMode="External"/><Relationship Id="rId2" Type="http://schemas.openxmlformats.org/officeDocument/2006/relationships/hyperlink" Target="http://english-zone.com/spelling/cont-01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92468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981080" y="1447920"/>
            <a:ext cx="647712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ontractions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7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381880" y="3886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371600"/>
            <a:ext cx="221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7432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10080" y="175248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334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342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342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8120" y="266688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e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249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52680" y="1371600"/>
            <a:ext cx="1447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2819520"/>
            <a:ext cx="3429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18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48604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07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75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75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296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81280" y="27432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i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58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523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ill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819520"/>
            <a:ext cx="2819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6572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52880" y="175248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2235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235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235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235"/>
                            </p:stCondLst>
                            <p:childTnLst>
                              <p:par>
                                <p:cTn id="2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1532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124080" y="2819520"/>
            <a:ext cx="2819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264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61048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2320" y="1371600"/>
            <a:ext cx="3124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4860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315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315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315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7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7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0773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909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2624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059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1371600"/>
            <a:ext cx="2438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1956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3073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73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73"/>
                            </p:stCondLst>
                            <p:childTnLst>
                              <p:par>
                                <p:cTn id="3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7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7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05920" y="3733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48120" y="274320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206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58200" y="4343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676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66688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35920" y="259092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81480" y="1676520"/>
            <a:ext cx="60984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94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943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943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943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22960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2320" y="1371600"/>
            <a:ext cx="3124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137160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819520"/>
            <a:ext cx="4648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01956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2305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305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305"/>
                            </p:stCondLst>
                            <p:childTnLst>
                              <p:par>
                                <p:cTn id="3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7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7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6104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666880" y="2819520"/>
            <a:ext cx="4648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ould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2295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05920" y="3657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657240" y="1523520"/>
            <a:ext cx="762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447920"/>
            <a:ext cx="21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27432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34304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2574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574"/>
                            </p:stCondLst>
                            <p:childTnLst>
                              <p:par>
                                <p:cTn id="3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7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7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30592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9880" y="27432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t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2524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2960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129528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8765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2734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734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734"/>
                            </p:stCondLst>
                            <p:childTnLst>
                              <p:par>
                                <p:cTn id="4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7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7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22960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s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2814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95680" y="1676520"/>
            <a:ext cx="60984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3552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52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552"/>
                            </p:stCondLst>
                            <p:childTnLst>
                              <p:par>
                                <p:cTn id="4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7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15328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he’s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2275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18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0400" y="129528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2015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15"/>
                            </p:stCondLst>
                            <p:childTnLst>
                              <p:par>
                                <p:cTn id="5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15"/>
                            </p:stCondLst>
                            <p:childTnLst>
                              <p:par>
                                <p:cTn id="5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7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7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1532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505320" y="2743200"/>
            <a:ext cx="2590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we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94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153280" y="3962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52680" y="266688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ca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58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305920" y="3962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66520" y="1295280"/>
            <a:ext cx="2210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743200"/>
            <a:ext cx="312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2295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295"/>
                            </p:stCondLst>
                            <p:childTnLst>
                              <p:par>
                                <p:cTn id="5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295"/>
                            </p:stCondLst>
                            <p:childTnLst>
                              <p:par>
                                <p:cTn id="5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81880" y="3733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971800" y="2743200"/>
            <a:ext cx="312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they’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2085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3818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62160" y="1295280"/>
            <a:ext cx="533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129528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274320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’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647960" y="1676520"/>
            <a:ext cx="60948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1" dur="2444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444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6444"/>
                            </p:stCondLst>
                            <p:childTnLst>
                              <p:par>
                                <p:cTn id="5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75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229600" y="4038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191120" y="274320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’m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846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133720" y="0"/>
            <a:ext cx="7619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ecide which is the correct contraction . Type an X in the box next to the one you choos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2193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’n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 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’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’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’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057400"/>
            <a:ext cx="167652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62920" y="205740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l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’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ill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o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’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’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4419720"/>
            <a:ext cx="167652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’s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es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4419720"/>
            <a:ext cx="1676160" cy="2128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’d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nt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id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1676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Narrow"/>
              </a:rPr>
              <a:t>nam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33720" y="0"/>
            <a:ext cx="7619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ecide which is the correct contraction . Type an X in the box next to the one you choos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05740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e ___________ go out to pla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n’t                      isn’t                    can’t                    it’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258920" cy="128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219320" y="327672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boy___________ eat his lunch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on’t                     they’re                  don’t                 we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449568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Jeff ___________ find the book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sn’t                     I’m                    can’t                      they’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5776920"/>
            <a:ext cx="7543800" cy="101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____________  coming to our clas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’t                     isn’t                    won’t                  aren’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0" y="1676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Narrow"/>
              </a:rPr>
              <a:t>nam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800100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Before you go, print slides 34 and 35.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For more practice with contractions, click on the links below.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manatee.k12.fl.us/sites/elementary/palmasola/klcontractions.ht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/>
              </a:rPr>
              <a:t>http://english-zone.com/spelling/cont-01.html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188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1440" y="1371600"/>
            <a:ext cx="1523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952880" y="1828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55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54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54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07732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767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are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12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05920" y="3505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9000" y="1371600"/>
            <a:ext cx="990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274320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288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22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225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225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5345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339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is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3342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00100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76720" y="1371600"/>
            <a:ext cx="1218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</a:t>
            </a:r>
            <a:endParaRPr b="0" lang="en-US" sz="7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137160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no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028840" y="1752480"/>
            <a:ext cx="60948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62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24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624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059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05320" y="2743200"/>
            <a:ext cx="281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bd189"/>
                </a:solidFill>
                <a:latin typeface="Arial"/>
              </a:rPr>
              <a:t>don’t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3592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634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3:43:34Z</dcterms:created>
  <dc:creator>Cathy Cunningham</dc:creator>
  <dc:description/>
  <dc:language>en-US</dc:language>
  <cp:lastModifiedBy>BCPS</cp:lastModifiedBy>
  <dcterms:modified xsi:type="dcterms:W3CDTF">2006-03-07T13:29:55Z</dcterms:modified>
  <cp:revision>30</cp:revision>
  <dc:subject>OIT</dc:subject>
  <dc:title>The Kite Contractions Resource</dc:title>
</cp:coreProperties>
</file>